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10AE-75F8-42FF-B638-FEE63F13E3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96E05-5429-445A-B112-0721C244A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C399A-E9C3-4202-82E2-9470E4CB5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6615C-6879-4A67-9F4D-A94C4F6DE9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4E264-1652-4D3F-9200-C280493903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35A4E-8921-46E8-9CCA-60C18A9C7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E5069-B375-463E-9199-843A75D3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696E1-7C99-4001-9A2C-959B511641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8C5A6-995D-42B7-B327-9F0586C31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4DBFD-D9C5-43D2-A464-B65AFD5B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625F7-CCDB-4EA8-9499-EB79DCBC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386C-4381-4E6A-B4CC-AA0C4F7C6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9351D-4611-4A59-BB5C-5A3965AE4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BB0B-2BBB-4260-8A55-83B0205CC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FB9F9-E1C6-43BC-9339-28FFB73C8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17BA80-73A8-4CC4-81DB-F009CD4C1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4D710-5DBF-436C-984F-6159668F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3900-D3DC-4F39-B64A-B88F4D2CD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40809-3467-42BF-BCAA-96541AAB5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482D9-4532-4885-A41B-ADA834857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3104-FE26-413E-879D-CE4CA2297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5BF9A-FC6A-449B-8BCA-B071A7527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735F-DD6D-44B3-984C-779F2A549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8D53-0F73-4174-B0D4-835CA9F23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71FE6-B907-492E-B991-562EC59166D2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Lucida Sans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cbcbc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D8C02-9645-48D6-AF0D-C4C9A540D31D}" type="slidenum">
              <a:rPr b="0" lang="en-US" sz="1200" spc="-1" strike="noStrike">
                <a:solidFill>
                  <a:srgbClr val="bcbcbc"/>
                </a:solidFill>
                <a:latin typeface="Book Antiqu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02480" y="50004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ffff00"/>
                </a:solidFill>
                <a:latin typeface="Times New Roman"/>
              </a:rPr>
              <a:t>Интегрисане академске студије медицин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3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84" name="Rectangle 6"/>
          <p:cNvSpPr/>
          <p:nvPr/>
        </p:nvSpPr>
        <p:spPr>
          <a:xfrm>
            <a:off x="324000" y="198900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МОДУЛ </a:t>
            </a:r>
            <a:r>
              <a:rPr b="1" lang="en-US" sz="24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ru-RU" sz="24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ffff00"/>
                </a:solidFill>
                <a:latin typeface="Times New Roman"/>
              </a:rPr>
              <a:t>Основе вештине комуникациј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835280" y="3357720"/>
            <a:ext cx="5545080" cy="12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ffff00"/>
                </a:solidFill>
                <a:latin typeface="Times New Roman"/>
              </a:rPr>
              <a:t>1. наставна јединица (прва недеља):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Times New Roman"/>
              </a:rPr>
              <a:t>Увод у вештину комуникациј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Text Box 8"/>
          <p:cNvSpPr/>
          <p:nvPr/>
        </p:nvSpPr>
        <p:spPr>
          <a:xfrm>
            <a:off x="5879520" y="5997600"/>
            <a:ext cx="305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ffff00"/>
                </a:solidFill>
                <a:latin typeface="Times New Roman"/>
              </a:rPr>
              <a:t>Проф. др Владимир Јањић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457200" y="807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531000" indent="-398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од </a:t>
            </a:r>
            <a:r>
              <a:rPr b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је језик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енглески, дански, арапски, али и неки технички или сленг..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орука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је оно што желите да кажете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директ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или индирект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пору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директну поруку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жете читати или чути «између редова» и веома често су оне важније од директних порук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31000" indent="-3985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Канал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је начин како шаљете поруку (језиком, говором тела, додиром...)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323640" y="808200"/>
            <a:ext cx="8569080" cy="535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 муникацију  отежавају лични филтери који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у блиско повезани са нашом личношћу и прошлошћу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Могу се заснивати на нашем искуству, нпр. као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Личности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Сличних ситуација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отреба да се афирмишемо или страхова од високих или моћних места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</a:rPr>
              <a:t>Нашег васпитања и образовања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lvl="1" marL="868320" indent="-282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</a:rPr>
              <a:t>Увек поставите себе на место вашег саговорника!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663480" y="167292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може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32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1" lang="en-US" sz="3200" spc="-1" strike="noStrike">
                <a:solidFill>
                  <a:srgbClr val="ffffff"/>
                </a:solidFill>
                <a:latin typeface="Book Antiqua"/>
              </a:rPr>
              <a:t>: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ербал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б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говор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иса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амер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намер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г) сигнална - симболичк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д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посредна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– 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непосредн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ђ) интраперсонална - интерперсонална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468360" y="549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87080" indent="-36576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ЕЂУЉУДС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м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форм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)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 algn="ctr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   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РБАЛ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                  НЕВЕРБАЛН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ри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азичниј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лик међуљудске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vi-VN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87080" indent="-36576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ад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рбал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с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гласне веру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оруц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ју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оси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вербалн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8" name="Straight Connector 7"/>
          <p:cNvSpPr/>
          <p:nvPr/>
        </p:nvSpPr>
        <p:spPr>
          <a:xfrm>
            <a:off x="4716360" y="1628640"/>
            <a:ext cx="1008000" cy="57636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Straight Connector 9"/>
          <p:cNvSpPr/>
          <p:nvPr/>
        </p:nvSpPr>
        <p:spPr>
          <a:xfrm flipH="1">
            <a:off x="3419280" y="1628640"/>
            <a:ext cx="1006200" cy="639720"/>
          </a:xfrm>
          <a:prstGeom prst="line">
            <a:avLst/>
          </a:prstGeom>
          <a:ln w="38160">
            <a:solidFill>
              <a:srgbClr val="ffc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78920" y="1714320"/>
            <a:ext cx="8929800" cy="421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00"/>
                </a:solidFill>
                <a:latin typeface="Arial"/>
              </a:rPr>
              <a:t>   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Основни принципи комуникације на релацији лекар-пацијент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ru-RU" sz="3600" spc="-1" strike="noStrike">
                <a:solidFill>
                  <a:srgbClr val="ffffff"/>
                </a:solidFill>
                <a:latin typeface="Times New Roman"/>
              </a:rPr>
              <a:t>Појам емпатије. </a:t>
            </a: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549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476280" indent="-35748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Зашто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потенцирамо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вештину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 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медицини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?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Успех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нашег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рада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зависи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1" lang="pl-PL" sz="26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pt-BR" sz="2600" spc="-1" strike="noStrike">
                <a:solidFill>
                  <a:srgbClr val="ffffff"/>
                </a:solidFill>
                <a:latin typeface="Book Antiqua"/>
              </a:rPr>
              <a:t>1.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валитета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браћања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шим</a:t>
            </a:r>
            <a:r>
              <a:rPr b="0" lang="pt-BR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ацијентима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(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арадницим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)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 и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it-IT" sz="2600" spc="-1" strike="noStrike">
                <a:solidFill>
                  <a:srgbClr val="ffffff"/>
                </a:solidFill>
                <a:latin typeface="Book Antiqua"/>
              </a:rPr>
              <a:t>2.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квалитет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лушањ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пособности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епознамо</a:t>
            </a:r>
            <a:r>
              <a:rPr b="0" lang="it-IT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 прихватим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н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што он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жел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д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саопшт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м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Успешно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споразумевање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n-US" sz="2600" spc="-1" strike="noStrike">
                <a:solidFill>
                  <a:srgbClr val="ffffff"/>
                </a:solidFill>
                <a:latin typeface="Book Antiqua"/>
              </a:rPr>
              <a:t>1.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тич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задовољство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ацијената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,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76280" indent="-3574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vi-VN" sz="2600" spc="-1" strike="noStrike">
                <a:solidFill>
                  <a:srgbClr val="ffffff"/>
                </a:solidFill>
                <a:latin typeface="Times New Roman"/>
              </a:rPr>
              <a:t>2.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има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длучујућу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логу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у</a:t>
            </a:r>
            <a:r>
              <a:rPr b="0" lang="vi-VN" sz="2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обезбеђивању сарадње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при</a:t>
            </a:r>
            <a:r>
              <a:rPr b="0" lang="en-US" sz="26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600" spc="-1" strike="noStrike">
                <a:solidFill>
                  <a:srgbClr val="ffffff"/>
                </a:solidFill>
                <a:latin typeface="Times New Roman"/>
              </a:rPr>
              <a:t>лечењу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Title 1" descr=""/>
          <p:cNvPicPr/>
          <p:nvPr/>
        </p:nvPicPr>
        <p:blipFill>
          <a:blip r:embed="rId1"/>
          <a:stretch/>
        </p:blipFill>
        <p:spPr>
          <a:xfrm>
            <a:off x="450720" y="-30240"/>
            <a:ext cx="8242560" cy="1457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рви утисак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Околина  и услови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амбуланта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болесничка соба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ургентни центар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присуство других особа,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450720" y="189000"/>
            <a:ext cx="8242560" cy="126828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Фактори који утичу на комуникацију од стране пацијент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оматска/психичка боле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трах, бес, стрепња,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образовање, узраст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Фактори који утичу на комуникацију од стране лекар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lvl="2" marL="1133640" indent="-2286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 txBox="1"/>
          <p:nvPr/>
        </p:nvSpPr>
        <p:spPr>
          <a:xfrm>
            <a:off x="428760" y="142848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Емпатиј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</a:t>
            </a:r>
            <a:r>
              <a:rPr b="0" lang="sr-Latn-CS" sz="2800" spc="-1" strike="noStrike">
                <a:solidFill>
                  <a:srgbClr val="ffffff"/>
                </a:solidFill>
                <a:latin typeface="Book Antiqua"/>
                <a:ea typeface="Arial"/>
              </a:rPr>
              <a:t> 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дословно уосећавање, уживљавање</a:t>
            </a:r>
            <a:r>
              <a:rPr b="0" lang="sr-CS" sz="2400" spc="-1" strike="noStrike">
                <a:solidFill>
                  <a:srgbClr val="ffffff"/>
                </a:solidFill>
                <a:latin typeface="Times New Roman"/>
                <a:ea typeface="Arial"/>
              </a:rPr>
              <a:t>. П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роцес непосредног уживљавања у емоционална стања, мишљење и понашање других људи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Симпатиј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привлачност односно наклоности према некоме или нечему, јавља се спонтано и често је необјашњиво, ирационално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 marL="541800" indent="-406800">
              <a:lnSpc>
                <a:spcPct val="100000"/>
              </a:lnSpc>
              <a:spcBef>
                <a:spcPts val="6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Антипатија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  <a:ea typeface="Arial"/>
              </a:rPr>
              <a:t>- </a:t>
            </a:r>
            <a:r>
              <a:rPr b="0" lang="sr-Latn-CS" sz="2400" spc="-1" strike="noStrike">
                <a:solidFill>
                  <a:srgbClr val="ffffff"/>
                </a:solidFill>
                <a:latin typeface="Book Antiqua"/>
                <a:ea typeface="Arial"/>
              </a:rPr>
              <a:t>је осећање које може да варира од благе ненаклоности и одбојности до изразите нетрпељивости и одвратности према некој особи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Асертивност подразумева директно, јасно и искрено исказивање својих осећања, потреба и ставова особи која својим понашањем крши туђа прав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То је способност супротстављања на неагресиван и неманипулативан начин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1"/>
          <p:cNvSpPr/>
          <p:nvPr/>
        </p:nvSpPr>
        <p:spPr>
          <a:xfrm>
            <a:off x="900000" y="2133720"/>
            <a:ext cx="770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уникација је елементарна људска активност која је усмерена како према спољашњем свету, тако и према унутрашњем, властитом бић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268280"/>
            <a:ext cx="822960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ОСТА АСЕРТИВНА РЕЧЕНИЦА садржи став, чињенцу или опсервацију. То је кратка реченица која исказује потребу или право онога који је изговар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римери: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1. Не чујем те добро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2. Сметају ми сталне упадице када говорим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3. Твој ауто је блокирао мој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468360" y="333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498240" indent="-37404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ЕМПАТИЧКА АСЕРТИВНОСТ садржи емпатију, препознавање стања и осећања друге особе и асертивност, исказивање сопствених потреба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700" spc="-1" strike="noStrike">
                <a:solidFill>
                  <a:srgbClr val="ffffff"/>
                </a:solidFill>
                <a:latin typeface="Times New Roman"/>
              </a:rPr>
              <a:t>Примери: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1. Говориш јако тихо. Имам проблем да те чујем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2. Видим да те ово што говорим узбуђује, а ја имам потребу да довршим ово што сам почео да говорим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98240" indent="-374040"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3. Извини што прекидам разговор, твој ауто је блокирао мој, а ја морам одмах да кренем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304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481680" indent="-361440">
              <a:lnSpc>
                <a:spcPct val="100000"/>
              </a:lnSpc>
              <a:spcBef>
                <a:spcPts val="6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АСЕРТИВНОСТ КОЈА ТРАЖИ ОДГОВОР је директна порука која садржи нашу потребу и тражи од саговорника да прецизира своје мишљење, став или осећање.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20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75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Примери: </a:t>
            </a:r>
            <a:endParaRPr b="0" lang="en-US" sz="27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1. Не чујем те, а јако ми је стало да чујем шта говориш. Можеш ли да говориш гласније?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. Видим да те ово што говорим узбуђује, а потребно ми је још пет минута да довршим. Можеш ли да сачекаш?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. Видим да прекидам веома интересантан разговор, а твој ауто је блокирао мој. Треба одмах да кренем, можеш ли да пођеш са мном и да га помериш?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81680" indent="-36144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457200" y="-273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465120" indent="-34920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АСЕРТИВНОСТ НЕГАТИВНИХ ОСЕЋАЊА садржи: а) неутралан опис туђег понашања,             б) сопствена осећања у датој ситуацији и                  в) оно што би онај ко говори волео да друга особа уради или конкретни ефекат туђег понашања на особу која говори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ffffff"/>
                </a:solidFill>
                <a:latin typeface="Times New Roman"/>
              </a:rPr>
              <a:t>Пример: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2. Када ме ти прекинеш док говорим, иритиран сам и плашим се да ћу да изгубим нит, а врло ми је важно да јасно искажем оно што желим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2600" spc="-1" strike="noStrike">
                <a:solidFill>
                  <a:srgbClr val="ffffff"/>
                </a:solidFill>
                <a:latin typeface="Times New Roman"/>
              </a:rPr>
              <a:t>3. Када твојим аутом блокираш мој, огорчена сам и волела бих да ми кажеш да ли наш договор око паркирања важи и даље. </a:t>
            </a: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  <a:p>
            <a:pPr marL="465120" indent="-349200">
              <a:lnSpc>
                <a:spcPct val="100000"/>
              </a:lnSpc>
              <a:spcBef>
                <a:spcPts val="649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800" spc="-1" strike="noStrike">
                <a:solidFill>
                  <a:srgbClr val="ffffff"/>
                </a:solidFill>
                <a:latin typeface="Times New Roman"/>
              </a:rPr>
              <a:t>Комуникација: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- преношење и разумевање значења попрука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- размен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куст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, k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ј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a 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o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ућа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развој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ив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ћа;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- споразумевање;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- учинити нешто општим или заједничким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eng. comunity = 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заједништво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lat. communis = </a:t>
            </a:r>
            <a:r>
              <a:rPr b="0" i="1" lang="sr-CS" sz="2800" spc="-1" strike="noStrike">
                <a:solidFill>
                  <a:srgbClr val="ffffff"/>
                </a:solidFill>
                <a:latin typeface="Times New Roman"/>
              </a:rPr>
              <a:t>заједничко</a:t>
            </a:r>
            <a:r>
              <a:rPr b="0" i="1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77300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Човек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биће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Историја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људског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рода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=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историја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Корен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Адаптација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окружењ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ј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услов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опстанка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.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Нема адаптациј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на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окружењ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без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pl-PL" sz="30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3000" spc="-1" strike="noStrike">
                <a:solidFill>
                  <a:srgbClr val="ffffff"/>
                </a:solidFill>
                <a:latin typeface="Times New Roman"/>
              </a:rPr>
              <a:t>са окружењем</a:t>
            </a:r>
            <a:r>
              <a:rPr b="0" lang="en-US" sz="30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Title 1" descr=""/>
          <p:cNvPicPr/>
          <p:nvPr/>
        </p:nvPicPr>
        <p:blipFill>
          <a:blip r:embed="rId1"/>
          <a:stretch/>
        </p:blipFill>
        <p:spPr>
          <a:xfrm>
            <a:off x="450720" y="268200"/>
            <a:ext cx="8242560" cy="11588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5904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стор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атир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још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д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јраних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бли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живот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 почетку се одвијала доминантно невербално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Људск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напредил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вором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200000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имбол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у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змишље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30000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исм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о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7000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годин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Title 1" descr=""/>
          <p:cNvPicPr/>
          <p:nvPr/>
        </p:nvPicPr>
        <p:blipFill>
          <a:blip r:embed="rId1"/>
          <a:stretch/>
        </p:blipFill>
        <p:spPr>
          <a:xfrm>
            <a:off x="450720" y="-92160"/>
            <a:ext cx="8242560" cy="1403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 txBox="1"/>
          <p:nvPr/>
        </p:nvSpPr>
        <p:spPr>
          <a:xfrm>
            <a:off x="179280" y="1268280"/>
            <a:ext cx="8569440" cy="470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605160" indent="-478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Први тип дефиниција нагласак ставља на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заједништво, дељењ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munis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заједнички, 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communicare: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елити, учинити заједни- чким)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5160" indent="-478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Други тип дефиниција наглашавају намеру, утицај, и комуникацију схватају као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наговарањ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, односно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убеђивање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5160" indent="-478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Код одређеног броја теоретичара комуникација се види као процес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преношења информација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605160" indent="-47808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Системске теорије комуникацију посматрају као 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</a:rPr>
              <a:t>интеракцију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 која се састоји од интерактивних делова, а која је увек већа од збира својих делова. 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заборав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еђуљудск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комуникација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кад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је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амо</a:t>
            </a:r>
            <a:r>
              <a:rPr b="0" lang="pl-PL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пренос информа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већ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емоциј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ставов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исл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верењ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,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 жељ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,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амера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...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Императив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може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бит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успешни у медицини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ако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нисте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 </a:t>
            </a:r>
            <a:r>
              <a:rPr b="0" lang="sr-CS" sz="2800" spc="-1" strike="noStrike">
                <a:solidFill>
                  <a:srgbClr val="ffffff"/>
                </a:solidFill>
                <a:latin typeface="Times New Roman"/>
              </a:rPr>
              <a:t>добар комуникатор</a:t>
            </a:r>
            <a:r>
              <a:rPr b="0" lang="en-US" sz="2800" spc="-1" strike="noStrike">
                <a:solidFill>
                  <a:srgbClr val="ffffff"/>
                </a:solidFill>
                <a:latin typeface="Book Antiqua"/>
              </a:rPr>
              <a:t>!</a:t>
            </a: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09656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Најбоља ствар комуникације је да не можемо да то престанемо да радимо.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Times New Roman"/>
              </a:rPr>
              <a:t>Увек комуницирамо</a:t>
            </a: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, чак и онда када не разговарамо или гледамо једни у друге.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ff"/>
                </a:solidFill>
                <a:latin typeface="Times New Roman"/>
              </a:rPr>
              <a:t>Комуникација зависи од особа које комуницирају. </a:t>
            </a: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  <a:p>
            <a:pPr marL="547560" indent="-41112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Lucida Sans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179280" y="189000"/>
            <a:ext cx="8785440" cy="61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5T17:57:55Z</dcterms:created>
  <dc:creator>DELL</dc:creator>
  <dc:description/>
  <dc:language>en-US</dc:language>
  <cp:lastModifiedBy>Slavica</cp:lastModifiedBy>
  <dcterms:modified xsi:type="dcterms:W3CDTF">2018-01-21T12:19:34Z</dcterms:modified>
  <cp:revision>38</cp:revision>
  <dc:subject/>
  <dc:title>Slide 1</dc:title>
</cp:coreProperties>
</file>